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A3B2-56D2-4C63-97A0-EC41BB8F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904-3E96-488A-9B63-425913BF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EB660-DB51-4CEE-AB37-B84F4AA6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67EE5-1EE1-4424-AD71-B16C6B83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4E54D-FE34-4FF1-8E73-AFC2BB41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C29DEE-7327-4AB4-9114-5BEAB03F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0789D-655E-43E5-9E32-93B87D3B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324B3-0A11-4460-8EE8-795FE2BE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92B5F-2EE0-4DFE-8BDF-59CA8FA1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5E72B-70D5-42F2-A50C-D09DD46C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8BBD6-2199-498E-B912-6366235CC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E62541-CC9D-4065-9C41-6F70AA1B9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6F1C-7DD6-4093-8127-30B4839D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AD48D4-7C06-4709-8D49-BC386E9D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47677-BFA5-44FD-9D2B-B2FF667B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61AE6-24A2-4296-8898-23DEAC21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C9CE5-10EC-4637-872B-A87005EA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3FDB1-E5AC-43C1-854E-6F199786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830CA-4A59-4517-A027-46662846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704A4-0ECB-4A7F-B112-799B104F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57B87-1816-49E3-B348-51D85823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1240D-AE48-4A9E-A17E-64F067455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B174D-6D81-42AC-878C-43C6244D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776B-B2A0-402E-827C-ED11D4A76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5D7CF3-1525-49A0-A0E3-27EE36B01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008BB-0CCA-40AA-851B-49F0F1C0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62735-E69F-4F74-864A-1082ADB7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B8A253-7406-408B-B9BF-3A3C1A0B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092C1-970C-4E26-85BC-880FC61D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0A110-16AE-48C8-B30F-83DF0423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792F8-CAE8-43B9-99FB-A699CF302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CC74D-02E2-4739-8957-881F107E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18661-2412-4E0B-8CA4-97DDF1E4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400EE-74A6-4CCD-A36B-16EDBAB3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97F4D-9AF2-4670-A759-26D2633E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2203B-4BD7-4F31-B0F3-E94B1C8A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9594E-2186-49EE-8088-55B29661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09573-DBB2-4BCF-B87B-759CAE4C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6F040-1F7F-4A45-A2F4-7AE1546F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33955-F6D1-4EC6-B245-6B5CB0C1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F5D97-258E-4051-B984-5F80A611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25F281-30DA-47C9-8F65-8CBF51BF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C2FF4D-E071-493C-B34C-28AE9E7B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F5015C-1F34-4DF4-8B08-B49AFB95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1C6B03-27E2-4F34-B17D-813667A4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BB80F-1797-462A-8120-13E6ADBB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E9314-98AD-49DA-96FE-29069F4E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CA967-83E8-433B-A5BF-31D25415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C3EB6-58E1-4884-9158-07D0F261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C3603-B628-4ECE-9D33-DBA49FEB3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80C074-FBEC-4C67-9E7B-E3776DC0B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78A90-AF69-4949-BD34-953E73BA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F2C21-77B5-4054-A518-32F93B7C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127C6B-CB2D-480E-83D3-24118E8A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13FD3-7294-46AE-A051-ABBF8DD0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EC209-7080-455E-B216-77057F91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2002-40DC-45FC-B48A-EDBDFD5C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5055AC-EF4B-4BA7-A25A-6604E202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7A0F93-0789-4297-A8A0-F18D02F6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7F150-5DA4-49B6-9B1D-B401808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975AD-7314-41F4-A958-0D4F932B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3B24C-6CC0-4289-BAC0-A6345128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CCE55-D4CC-4AF9-A1DA-0D7F1CBE9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34A50-386D-4865-9EC7-D7311FD4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5FD48D-D84D-4BA6-841A-0047A1CA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CEC233-3698-4B71-9554-2FCDCC50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2AEAF1-238B-4BC4-A2DF-31D63A14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51F2-D87D-46DB-89A9-8D232E24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0DEE83-796F-4BF5-A6E4-0ED38874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995D18-8528-4692-9321-4B650D21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BC9BB6-4DC2-4E86-B882-93617C54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DBDF66-1154-4700-99A1-F401B971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9DE97-5A69-422C-A5DB-B19EC6B8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06919-1453-4C6A-9CD1-199C2312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F90944-F30A-49DA-A0FB-C50489B3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F6558C-B009-48E9-81A2-2796E1B8F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C1917-E34B-4F96-8CBD-C5707E24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6F97D-CFE2-4DD7-BCB8-CCE9DCAA8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907C-B8AD-4DA6-A216-39B2D4C8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5B328E-3EEE-4F62-9DC2-AE7F787F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C14AC-15AA-476B-8CD6-FA443CD4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93C61-12AD-49CD-833A-86D33722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193144-D937-44C6-8A3F-FBA4001A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1E796-A792-4931-A63E-92E23C4F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00EAF-A92F-40F8-A6F6-CBAC4BC9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39145-DC87-44C9-95FA-90639AC2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1E3A23-A337-4D60-A46D-680032BC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40ED3D-E45B-470A-A823-B8CFC114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A1504-4CC1-46BD-BBC7-857BF0EF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4A30B-C259-4F08-9329-DE0E9254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EA4EDE-F5C7-486B-AD3E-8EB8A5D34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6CFBD9-6054-4785-BC2A-DA02E76E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BE10D2-2EEA-4260-BC84-C207B686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5C961C-BA01-44EE-8E3A-DE7C2357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032C7F-7584-495F-8F7C-B41013C8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F45E34-D35D-4354-891B-C7C360EB6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8417CF-7686-45BF-9562-EEBBAFDF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14CA9-00A7-47A3-A09C-D6F168BB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A138B-429F-4389-B4CC-AA6AF41D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371BC-61D6-4598-8941-0B662B7B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FB8C-A6CA-4C3B-A841-10686500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0BCF5A-EEF3-4392-A930-B726C1F22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02B26-9304-4E52-882A-20462961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516F0A-2B13-4018-AE2E-D312C430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D7EB0E-CAE8-4F09-9697-7EDDDECB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C61477-7A75-44C1-8960-5ABE6843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7FD580-DCE4-4CEA-8FA0-CC4BE17C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946788-9C59-4DC7-9CC6-19FFC340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711C7C-0E06-4EF7-94AE-0E7DC504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B2C725-4586-4EC2-BE67-4D24A9F2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94F1F1-FE27-4504-990E-E7CEA952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D96C-340C-48AC-A900-14808289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C647-01C3-465A-8814-A5F46D4D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4EB620-F378-4F8E-9D36-6EA6A8F8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74CE7C-EED6-44F6-8F26-5C5E82CB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C65D30-2C28-4805-ADA7-4D0B01876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342E21-4407-4F04-A69C-0AF014ED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F25F7F-78EA-4360-81A2-AE2C3DC2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95A4-8036-41E6-B905-C3FC5429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A0A5-446F-4E14-B2BE-AB204B6C1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74876-A47C-4911-9FDE-5830B7B0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31E5-6CD3-4E32-8664-F14DA5EF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01272-3239-47AD-82B0-A18A6CC3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98F4-B937-4427-BC20-B0BB385B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439AA-F651-493C-963F-4FF1CFEC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53509-888B-40B2-8CAF-0E26C020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85FBC-1D14-4C2F-AEC4-53AA86B9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B15-87B7-409B-A818-D3BF0368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00DA3-C322-48B8-8910-02DD150F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376A7-B701-4FFE-8F87-3F7643D3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74D28-0EE9-437A-B192-FB6EBBC1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0C23D-4A59-48BE-A252-B31F747A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9D7DC-B802-460F-9C6C-E84B4BC1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4E156-039D-4BF6-8E67-DC1DC8DD2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28093-C8B2-4AA8-BD91-41B05C1B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EDA8B-D3D1-4BB1-9022-1F4DFE02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43A1E-C749-4BD5-A063-94F0BD22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465E9-6EED-4DDD-BC83-09AD35975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B217-9E55-4A80-AFA1-E643C09A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12B43-14E4-435F-B34B-8C35BF1B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65505-434B-443E-B624-2C2102E4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0F27B-02D8-4603-BFA1-A990881B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6869C-6CB9-4E09-9980-638A5606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A23E1-F3F0-4867-80CA-E4957064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985BE-283E-4F57-90DB-673F7A50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F81D4-F2A7-4094-A179-19CCD986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7E725-E022-4016-855F-B14758586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99F22-29B7-4C8C-90D4-AB33ACC80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46300-D20F-49C2-B749-30E474E7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F47A-8461-404B-915E-46499599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C3EFD-C6FF-4B37-AADA-06B311C2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15554-3F13-4CE0-81BE-C436834E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11A90-7F75-42F6-9C50-9BE69433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9331F-B5A0-41DC-AC6C-36B0275D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DE8EE-2C74-4AD8-BB72-3ACA1650D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E3862-CE32-4872-BD61-A8E18212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830AD-AEB9-4821-B7A3-DB3AEAF2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BAEF4-83FE-4BC5-A014-B34A7C43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28501-F4E8-44EA-B407-2E652ED6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03C6C-DA90-4ED8-BD07-1CC71DC2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A217-A2D0-4ED3-BEFB-92E6A14D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65213-4E29-44BD-9EC4-87588D054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2145D-1F18-494C-9095-A5BEF27C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5F6D7-4177-458E-8AA1-38232F470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A32BD-591A-4AC5-B714-A5085634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D9A4A-7175-4C80-BA8B-6DC2F1BC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ECC3B-12AF-456C-91A0-353FA763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06D8A-E021-422F-A748-A86A6651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F9B77-B5A6-4F7E-8386-27DE6E5A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A1647-3ACE-4FA1-ABDB-FC8C5A89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8A46B-842E-4303-8434-1F5F044C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B00C-1177-489E-9BE9-63472A42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2CB98-9F8E-4B7A-AC76-0E7451B4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2E76A-B3BB-4E25-A8CC-B0A2BEE1F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1DF4A-F7A5-46C6-B9BC-BE909EEB9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D4E30-D2B5-45AA-A36B-57474446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9A83A-23A7-406F-9CF3-B79BF8DD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0F208-59F5-4D3C-BB63-0480C530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773B2B-021F-4C3A-AC85-B3FFEBB4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F9F09-024C-452F-B455-5316D733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4F31B-829D-4917-8464-13FFB42D3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FA381-8675-41ED-824E-649159C1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2FC-9FBD-4189-86C7-57418CD0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B81DEB-F53D-420B-820C-F034FC29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79EE0-9F5C-4A89-9052-55D7F0C1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BD23F-B904-4BFD-AD72-B67617F2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111E8-1D81-4811-A545-6B95B154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9A91F-B878-467F-9CD2-0CFBA8D7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85AC0-0A0E-4FBF-9A10-973F5327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8F2E8-6A75-4A27-8BDC-EDEF5B7F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6D436-C3AC-4DC5-8628-B452836E2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6870B-BF63-4624-BAD0-517F7A0C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78CC3-4103-47B9-80D4-EDE29E33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FAC8-D821-4B5F-B931-55E00C09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61EF9-4F4B-444E-A614-F1ED6E06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20517-4639-4075-8B01-D98FDFFC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86ED3-27E2-41E2-868F-0548B2B8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020B5-3A18-4952-9040-99FB9AC9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7175D-F7C0-45BA-BBC9-C29647D3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A1517-FF96-4F95-A4C0-2FF99EB6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489BF-C0EA-403E-AEC1-CCB67D51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46FF5-CB17-43CB-A13D-31606863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68D14-B452-46F4-83CE-7692666D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30E6EA-2384-47E5-B61F-EECAB5B0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AABF-E435-493E-9D59-4CE74F36D0A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E13E-63A1-4388-B51E-B914FCE176A7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D949-71FA-4104-9CC8-AE7CD3DBAAA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4b6d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4b6d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66A7-E238-445D-8DCC-EE97BB8A61F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442B-C0E7-4C5E-B6C3-83210FF6E7D7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4b6d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4b6d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FF05-7A61-4E06-BE98-A40B7247D9A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4F8F-AB8E-491F-AA16-44491E807EF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F352-B00D-4392-8ECB-448263D1FD9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6B6A-AA86-431C-8EA0-4F31EC659A0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B69E-A898-4301-BB63-D123797BC32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7470-9862-4FB6-BC19-BBDD6B840D0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05D3-5B89-44A6-BE97-CEAE10D6BD8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1892-613B-46F2-B04C-2A696FC1FE0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8B92-812D-4CF9-B7CA-5A116C1999C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FBAF-7BCA-4E17-B29B-8860B6C3486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301F-8295-4AF8-A7AD-DECEAF422E5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75f5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75f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75f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94b6d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AD59-27B4-4C98-AAA9-E2C37872A3A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ángulo 1"/>
          <p:cNvSpPr/>
          <p:nvPr/>
        </p:nvSpPr>
        <p:spPr>
          <a:xfrm>
            <a:off x="815040" y="2170080"/>
            <a:ext cx="7636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8800" spc="-1" strike="noStrike">
                <a:solidFill>
                  <a:srgbClr val="000000"/>
                </a:solidFill>
                <a:latin typeface="Baskerville Old Face"/>
              </a:rPr>
              <a:t>OBTENIEND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200" spc="-1" strike="noStrike">
                <a:solidFill>
                  <a:srgbClr val="000000"/>
                </a:solidFill>
                <a:latin typeface="Century Gothic"/>
              </a:rPr>
              <a:t>LA </a:t>
            </a:r>
            <a:r>
              <a:rPr b="1" lang="es-VE" sz="7200" spc="-1" strike="noStrike">
                <a:solidFill>
                  <a:srgbClr val="000000"/>
                </a:solidFill>
                <a:latin typeface="Century Gothic"/>
              </a:rPr>
              <a:t>PAZ</a:t>
            </a:r>
            <a:r>
              <a:rPr b="0" lang="es-VE" sz="7200" spc="-1" strike="noStrike">
                <a:solidFill>
                  <a:srgbClr val="000000"/>
                </a:solidFill>
                <a:latin typeface="Century Gothic"/>
              </a:rPr>
              <a:t> INTERI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ángulo 1"/>
          <p:cNvSpPr/>
          <p:nvPr/>
        </p:nvSpPr>
        <p:spPr>
          <a:xfrm>
            <a:off x="611280" y="196704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i has dado motivo de ofensa a tu amigo o vecino, debes reconocer tu falta, y es su deber perdonarte libre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ángulo 1"/>
          <p:cNvSpPr/>
          <p:nvPr/>
        </p:nvSpPr>
        <p:spPr>
          <a:xfrm>
            <a:off x="684360" y="220968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bes entonces buscar el perdón de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ángulo 1"/>
          <p:cNvSpPr/>
          <p:nvPr/>
        </p:nvSpPr>
        <p:spPr>
          <a:xfrm>
            <a:off x="468360" y="1916280"/>
            <a:ext cx="806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orque el hermano a quien has ofendido pertenece a Dios y al perjudicarlo has pecado contra su Creador y Reden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ángulo 1"/>
          <p:cNvSpPr/>
          <p:nvPr/>
        </p:nvSpPr>
        <p:spPr>
          <a:xfrm>
            <a:off x="468360" y="1944720"/>
            <a:ext cx="7920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bemos presentar el caso delante del único y verdadero Mediador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uestro gran Sumo Sacerdo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ángulo 1"/>
          <p:cNvSpPr/>
          <p:nvPr/>
        </p:nvSpPr>
        <p:spPr>
          <a:xfrm>
            <a:off x="755640" y="2048040"/>
            <a:ext cx="7632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ha sido tentado en todo punto, así como nosotros, mas sin pecado  que es capaz de  compadecerse de nuestras flaquezas"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Hebreos 4: 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ángulo 1"/>
          <p:cNvSpPr/>
          <p:nvPr/>
        </p:nvSpPr>
        <p:spPr>
          <a:xfrm>
            <a:off x="611280" y="206064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es poderoso para limpiarnos de toda mancha de pec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ángulo 1"/>
          <p:cNvSpPr/>
          <p:nvPr/>
        </p:nvSpPr>
        <p:spPr>
          <a:xfrm>
            <a:off x="611280" y="2205000"/>
            <a:ext cx="7848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Los que no se han humillado de corazón delante de Dios reconociendo su culpa,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han cumplido todavía la primera condición de la acep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ángulo 1"/>
          <p:cNvSpPr/>
          <p:nvPr/>
        </p:nvSpPr>
        <p:spPr>
          <a:xfrm>
            <a:off x="395280" y="177336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i no hemos experimentado ese arrepentimiento, del cual nadie se arrepien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ángulo 1"/>
          <p:cNvSpPr/>
          <p:nvPr/>
        </p:nvSpPr>
        <p:spPr>
          <a:xfrm>
            <a:off x="1187280" y="1700280"/>
            <a:ext cx="6697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i no hemos confesado nuestros pecados con verdadera humillación de alma y quebrantamiento de espíritu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ángulo 1"/>
          <p:cNvSpPr/>
          <p:nvPr/>
        </p:nvSpPr>
        <p:spPr>
          <a:xfrm>
            <a:off x="755640" y="1989000"/>
            <a:ext cx="748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borreciendo nuestra iniquidad, no hemos buscado verdaderamente el perdón de nuestros pecad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ángulo 1"/>
          <p:cNvSpPr/>
          <p:nvPr/>
        </p:nvSpPr>
        <p:spPr>
          <a:xfrm>
            <a:off x="539640" y="1844640"/>
            <a:ext cx="7993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que encubre sus transgresiones, no prosperará; mas quien las confiese y las abandone, alcanzará misericordi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Proverbios 28: 1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ángulo 1"/>
          <p:cNvSpPr/>
          <p:nvPr/>
        </p:nvSpPr>
        <p:spPr>
          <a:xfrm>
            <a:off x="826920" y="1731960"/>
            <a:ext cx="741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si nunca lo hemos buscado, nunca hemos encontrado la paz de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ángulo 1"/>
          <p:cNvSpPr/>
          <p:nvPr/>
        </p:nvSpPr>
        <p:spPr>
          <a:xfrm>
            <a:off x="684360" y="2133720"/>
            <a:ext cx="7848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única razón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orque no obtenemos la remisión de nuestros pecados pasados es que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estamos dispuestos a humillar nuestro coraz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ángulo 1"/>
          <p:cNvSpPr/>
          <p:nvPr/>
        </p:nvSpPr>
        <p:spPr>
          <a:xfrm>
            <a:off x="971640" y="2133720"/>
            <a:ext cx="72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i a cumplir con las condiciones de la Palabra de ver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ángulo 1"/>
          <p:cNvSpPr/>
          <p:nvPr/>
        </p:nvSpPr>
        <p:spPr>
          <a:xfrm>
            <a:off x="755640" y="1628640"/>
            <a:ext cx="734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 nos dan instrucciones explícitas respecto a este asu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ángulo 1"/>
          <p:cNvSpPr/>
          <p:nvPr/>
        </p:nvSpPr>
        <p:spPr>
          <a:xfrm>
            <a:off x="611280" y="2170080"/>
            <a:ext cx="770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confesión de nuestros pecados,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ya sea pública o privada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be ser de corazón y voluntar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ángulo 1"/>
          <p:cNvSpPr/>
          <p:nvPr/>
        </p:nvSpPr>
        <p:spPr>
          <a:xfrm>
            <a:off x="611280" y="202572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No debe ser arrancada al pecado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ángulo 1"/>
          <p:cNvSpPr/>
          <p:nvPr/>
        </p:nvSpPr>
        <p:spPr>
          <a:xfrm>
            <a:off x="539640" y="1916280"/>
            <a:ext cx="7777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No debe hacerse de un modo ligero y descuidad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ángulo 1"/>
          <p:cNvSpPr/>
          <p:nvPr/>
        </p:nvSpPr>
        <p:spPr>
          <a:xfrm>
            <a:off x="684360" y="191628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o debe exigirse de aquellos que no tienen real comprensión del carácter aborrecible del pe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ángulo 1"/>
          <p:cNvSpPr/>
          <p:nvPr/>
        </p:nvSpPr>
        <p:spPr>
          <a:xfrm>
            <a:off x="755640" y="2060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confesión que brota de lo íntimo del alma sube al Dios de piedad infin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ángulo 1"/>
          <p:cNvSpPr/>
          <p:nvPr/>
        </p:nvSpPr>
        <p:spPr>
          <a:xfrm>
            <a:off x="539640" y="1557360"/>
            <a:ext cx="792000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l salmista dice: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Cercano está Jehová a los quebrantados de corazón, y salva a los de espíritu contrito"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lmo 34: 18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ángulo 1"/>
          <p:cNvSpPr/>
          <p:nvPr/>
        </p:nvSpPr>
        <p:spPr>
          <a:xfrm>
            <a:off x="324000" y="1916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s condiciones para obtener la misericordia de Dios son sencillas, justas y razonab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ángulo 1"/>
          <p:cNvSpPr/>
          <p:nvPr/>
        </p:nvSpPr>
        <p:spPr>
          <a:xfrm>
            <a:off x="755640" y="158256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verdadera confes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es siempre de un carácter específico y declara pecados particular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ángulo 1"/>
          <p:cNvSpPr/>
          <p:nvPr/>
        </p:nvSpPr>
        <p:spPr>
          <a:xfrm>
            <a:off x="684360" y="177336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ueden ser de tal naturaleza que solamente pueden presentarse delante de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ángulo 1"/>
          <p:cNvSpPr/>
          <p:nvPr/>
        </p:nvSpPr>
        <p:spPr>
          <a:xfrm>
            <a:off x="755640" y="1916280"/>
            <a:ext cx="748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ueden ser males que deben confesarse individualmente a  los que hayan sufrido daño por ell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ángulo 1"/>
          <p:cNvSpPr/>
          <p:nvPr/>
        </p:nvSpPr>
        <p:spPr>
          <a:xfrm>
            <a:off x="468360" y="2276640"/>
            <a:ext cx="8207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ueden ser de un carácter público,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en ese caso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berán confesarse pública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ángulo 1"/>
          <p:cNvSpPr/>
          <p:nvPr/>
        </p:nvSpPr>
        <p:spPr>
          <a:xfrm>
            <a:off x="611280" y="1989000"/>
            <a:ext cx="792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Toda confesión debe hacerse definida y al punto, reconociendo los mismos pecados de que seáis culp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ángulo 1"/>
          <p:cNvSpPr/>
          <p:nvPr/>
        </p:nvSpPr>
        <p:spPr>
          <a:xfrm>
            <a:off x="684360" y="1916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los días de Samuel los israelitas se extraviaron de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ángulo 1"/>
          <p:cNvSpPr/>
          <p:nvPr/>
        </p:nvSpPr>
        <p:spPr>
          <a:xfrm>
            <a:off x="611280" y="1989000"/>
            <a:ext cx="756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staban sufriendo las consecuenc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l pec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ángulo 1"/>
          <p:cNvSpPr/>
          <p:nvPr/>
        </p:nvSpPr>
        <p:spPr>
          <a:xfrm>
            <a:off x="755640" y="2076480"/>
            <a:ext cx="75614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Habían perdido su fe en Dios,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discernimiento de su poder y su sabiduría para gobernar a la n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ángulo 1"/>
          <p:cNvSpPr/>
          <p:nvPr/>
        </p:nvSpPr>
        <p:spPr>
          <a:xfrm>
            <a:off x="684360" y="213372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erdieron su confianza en la capacidad del Señor para defender y vindicar su caus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ángulo 1"/>
          <p:cNvSpPr/>
          <p:nvPr/>
        </p:nvSpPr>
        <p:spPr>
          <a:xfrm>
            <a:off x="539640" y="1852560"/>
            <a:ext cx="7777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e apartaron del gran Gobernante del univer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y quisieron ser gobernados como las naciones que los rodeab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ángulo 1"/>
          <p:cNvSpPr/>
          <p:nvPr/>
        </p:nvSpPr>
        <p:spPr>
          <a:xfrm>
            <a:off x="324000" y="1916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Señor no nos exige que hagamos alguna cosa penosa para obtener el perdón de los peca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ángulo 1"/>
          <p:cNvSpPr/>
          <p:nvPr/>
        </p:nvSpPr>
        <p:spPr>
          <a:xfrm>
            <a:off x="539640" y="1955880"/>
            <a:ext cx="76327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Antes de encontrar paz confesar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Porque a todos nuestros pecados hemos añadido esta maldad de pedir para nosotros un rey"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1 Samuel 12: 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ángulo 1"/>
          <p:cNvSpPr/>
          <p:nvPr/>
        </p:nvSpPr>
        <p:spPr>
          <a:xfrm>
            <a:off x="684360" y="1989000"/>
            <a:ext cx="755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enían que confesar el mismo pecado del cual estaban convenci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ángulo 1"/>
          <p:cNvSpPr/>
          <p:nvPr/>
        </p:nvSpPr>
        <p:spPr>
          <a:xfrm>
            <a:off x="611280" y="22766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 ingratitud oprimía sus almas y los separaba de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ángulo 1"/>
          <p:cNvSpPr/>
          <p:nvPr/>
        </p:nvSpPr>
        <p:spPr>
          <a:xfrm>
            <a:off x="684360" y="1916280"/>
            <a:ext cx="75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ios no acepta la confesión sin sincero arrepentimiento y reform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ángulo 1"/>
          <p:cNvSpPr/>
          <p:nvPr/>
        </p:nvSpPr>
        <p:spPr>
          <a:xfrm>
            <a:off x="684360" y="1967040"/>
            <a:ext cx="770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be haber un cambio decidido en la vida;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toda cosa que sea ofensiva a Dios debe deja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ángulo 1"/>
          <p:cNvSpPr/>
          <p:nvPr/>
        </p:nvSpPr>
        <p:spPr>
          <a:xfrm>
            <a:off x="755640" y="1996920"/>
            <a:ext cx="74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sto será el resultado de una verdadera tristeza por el pe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ángulo 1"/>
          <p:cNvSpPr/>
          <p:nvPr/>
        </p:nvSpPr>
        <p:spPr>
          <a:xfrm>
            <a:off x="971640" y="2128680"/>
            <a:ext cx="720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e nos presenta claramente la obra que tenemos que hacer de nuestra par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ángulo 1"/>
          <p:cNvSpPr/>
          <p:nvPr/>
        </p:nvSpPr>
        <p:spPr>
          <a:xfrm>
            <a:off x="539640" y="1608120"/>
            <a:ext cx="8209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¡Lavaos, limpiaos; apartad la maldad de vuestras obras de delante de mis ojos; cesad de hacer lo malo; aprended a hacer lo bueno; buscad lo justo; socorred al oprimido; mantened el derecho del huérfano defended la causa de la viuda!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Isaías 1: 16, 1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ángulo 1"/>
          <p:cNvSpPr/>
          <p:nvPr/>
        </p:nvSpPr>
        <p:spPr>
          <a:xfrm>
            <a:off x="971640" y="1989000"/>
            <a:ext cx="7200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Si el inicuo devolviere la prenda, restituyere lo robado,  y anduviere en los estatutos de la vida, sin cometer iniquidad, ciertamente vivirá; no morirá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Ezequiel 33: 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ángulo 1"/>
          <p:cNvSpPr/>
          <p:nvPr/>
        </p:nvSpPr>
        <p:spPr>
          <a:xfrm>
            <a:off x="755640" y="1773360"/>
            <a:ext cx="770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Pablo dice, hablando del arrepentimien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ues, he aquí, esto mismo, el que fuisteis entristecidos según Dios, ¡qué solícito cuidado obró en vosotros!..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ángulo 1"/>
          <p:cNvSpPr/>
          <p:nvPr/>
        </p:nvSpPr>
        <p:spPr>
          <a:xfrm>
            <a:off x="468360" y="184464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necesitamos hacer largas y cansadoras peregrinacio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ángulo 1"/>
          <p:cNvSpPr/>
          <p:nvPr/>
        </p:nvSpPr>
        <p:spPr>
          <a:xfrm>
            <a:off x="611280" y="1773360"/>
            <a:ext cx="79214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 qué defensa de vosotros mismos!  y  ¡qué indignación! y ¡qué temor! y ¡qué ardiente deseo! y ¡qué celo! Y ¡qué justicia vengativa! En todo os habéis mostrado puros en este asunto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2 Corintios 7: 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ángulo 1"/>
          <p:cNvSpPr/>
          <p:nvPr/>
        </p:nvSpPr>
        <p:spPr>
          <a:xfrm>
            <a:off x="755640" y="186228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Cuando el pecado ha amortiguado la percepción moral, el injusto no discierne los defectos de su carácter,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ni comprende la enormidad del mal que ha cometi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ángulo 1"/>
          <p:cNvSpPr/>
          <p:nvPr/>
        </p:nvSpPr>
        <p:spPr>
          <a:xfrm>
            <a:off x="755640" y="206064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 menos que ceda al poder convincente del Espíritu Santo, permanecerá parcialmente ciego sin percibir su pe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ángulo 1"/>
          <p:cNvSpPr/>
          <p:nvPr/>
        </p:nvSpPr>
        <p:spPr>
          <a:xfrm>
            <a:off x="971640" y="234936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s confesiones no son sinceras ni de coraz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ángulo 1"/>
          <p:cNvSpPr/>
          <p:nvPr/>
        </p:nvSpPr>
        <p:spPr>
          <a:xfrm>
            <a:off x="684360" y="1884240"/>
            <a:ext cx="777528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ada vez que reconoce su maldad trata de excusar su conducta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eclarando que si no hubiese sido por ciertas circunstancias, no habría hecho esto o aquello, de lo que se lo reprue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ángulo 1"/>
          <p:cNvSpPr/>
          <p:nvPr/>
        </p:nvSpPr>
        <p:spPr>
          <a:xfrm>
            <a:off x="826920" y="1989000"/>
            <a:ext cx="7417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spués de que Adán y Eva hubieron comido de la fruta prohibida, los embargó un sentimiento de vergüenza y t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ángulo 1"/>
          <p:cNvSpPr/>
          <p:nvPr/>
        </p:nvSpPr>
        <p:spPr>
          <a:xfrm>
            <a:off x="826920" y="1989000"/>
            <a:ext cx="7490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l principio solamente pensaban en cómo podrían excusar su pecado y escapar de la terrible sentencia de mue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ángulo 1"/>
          <p:cNvSpPr/>
          <p:nvPr/>
        </p:nvSpPr>
        <p:spPr>
          <a:xfrm>
            <a:off x="755640" y="2098800"/>
            <a:ext cx="770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uando el Señor les habló tocante a su pecado, Adán respondió, echando la culpa en parte a Dios y en parte a su compañ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ángulo 1"/>
          <p:cNvSpPr/>
          <p:nvPr/>
        </p:nvSpPr>
        <p:spPr>
          <a:xfrm>
            <a:off x="826920" y="1996920"/>
            <a:ext cx="74901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La mujer que pusiste aquí conmigo me dio del árbol, y comí".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La mujer echó la culpa a la serpiente, diciendo: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"La serpiente me engañó, y comí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(Génesis 3: 12, 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ángulo 1"/>
          <p:cNvSpPr/>
          <p:nvPr/>
        </p:nvSpPr>
        <p:spPr>
          <a:xfrm>
            <a:off x="611280" y="1884240"/>
            <a:ext cx="77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¿Por qué hiciste la serpiente?¿Por qué le permitiste que entrase en el Edén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ángulo 1"/>
          <p:cNvSpPr/>
          <p:nvPr/>
        </p:nvSpPr>
        <p:spPr>
          <a:xfrm>
            <a:off x="324000" y="1989000"/>
            <a:ext cx="84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Tampoco ejecutar duras penitencias, para encomendar nuestras alm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l Dios de los ciel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ángulo 1"/>
          <p:cNvSpPr/>
          <p:nvPr/>
        </p:nvSpPr>
        <p:spPr>
          <a:xfrm>
            <a:off x="826920" y="2349360"/>
            <a:ext cx="75614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sas eran las  preguntas implicadas en la excusa de su pecado,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haciendo a Dios responsable de su caí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ángulo 1"/>
          <p:cNvSpPr/>
          <p:nvPr/>
        </p:nvSpPr>
        <p:spPr>
          <a:xfrm>
            <a:off x="826920" y="220500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espíritu de  justificación propia tuvo su origen en el padre de la mentira 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y ha sido exhibido por todos los hijos e hijas de Ad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ángulo 1"/>
          <p:cNvSpPr/>
          <p:nvPr/>
        </p:nvSpPr>
        <p:spPr>
          <a:xfrm>
            <a:off x="755640" y="2205000"/>
            <a:ext cx="756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s  confesiones de esta clase no son inspiradas por el Espíritu  divino y no serán aceptables para D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ángulo 1"/>
          <p:cNvSpPr/>
          <p:nvPr/>
        </p:nvSpPr>
        <p:spPr>
          <a:xfrm>
            <a:off x="755640" y="1989000"/>
            <a:ext cx="7561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arrepentimiento  verdadero induce al hombre a reconocer su propia maldad, sin engaño ni hipocres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ángulo 1"/>
          <p:cNvSpPr/>
          <p:nvPr/>
        </p:nvSpPr>
        <p:spPr>
          <a:xfrm>
            <a:off x="900000" y="2349360"/>
            <a:ext cx="74170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omo el pobre publicano que no  osaba ni aun alzar sus ojos al cielo, exclamará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Dios, ten  misericordia de mí, pecador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ángulo 1"/>
          <p:cNvSpPr/>
          <p:nvPr/>
        </p:nvSpPr>
        <p:spPr>
          <a:xfrm>
            <a:off x="826920" y="2149560"/>
            <a:ext cx="72741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y los que reconozcan así su  iniquidad serán justificados,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porque Jesús presentará su  sangre en favor del alma arrepen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ángulo 1"/>
          <p:cNvSpPr/>
          <p:nvPr/>
        </p:nvSpPr>
        <p:spPr>
          <a:xfrm>
            <a:off x="755640" y="2035080"/>
            <a:ext cx="76327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os ejemplos de arrepentimiento y humillación  genuinos que da la Palabra de Dios 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revelan un espíritu de  confesión sin excusa por el pec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ángulo 1"/>
          <p:cNvSpPr/>
          <p:nvPr/>
        </p:nvSpPr>
        <p:spPr>
          <a:xfrm>
            <a:off x="611280" y="225108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ampoco intento de  justificación prop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ángulo 1"/>
          <p:cNvSpPr/>
          <p:nvPr/>
        </p:nvSpPr>
        <p:spPr>
          <a:xfrm>
            <a:off x="826920" y="2276640"/>
            <a:ext cx="7417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ablo no procura defenderse;   pinta su pecado como es, sin intentar atenuar su cul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ángulo 1"/>
          <p:cNvSpPr/>
          <p:nvPr/>
        </p:nvSpPr>
        <p:spPr>
          <a:xfrm>
            <a:off x="755640" y="1989000"/>
            <a:ext cx="77040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ice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o cual también hice en Jerusalén, encerrando yo mismo  en la cárcel a muchos de los santos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ángulo 1"/>
          <p:cNvSpPr/>
          <p:nvPr/>
        </p:nvSpPr>
        <p:spPr>
          <a:xfrm>
            <a:off x="324000" y="186228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más el que confiesa su pecado y se aparta de él, alcanzará misericord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ángulo 1"/>
          <p:cNvSpPr/>
          <p:nvPr/>
        </p:nvSpPr>
        <p:spPr>
          <a:xfrm>
            <a:off x="826920" y="1916280"/>
            <a:ext cx="7345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habiendo recibido  autorización de parte de los jefes de los sacerdotes; y  cuando se les daba muerte, yo echaba mi voto contra ellos…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ángulo 1"/>
          <p:cNvSpPr/>
          <p:nvPr/>
        </p:nvSpPr>
        <p:spPr>
          <a:xfrm>
            <a:off x="900000" y="1955880"/>
            <a:ext cx="74883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y castigándolos muchas veces, por todas las sinagogas, les  hacia fuerza para que blasfemasen;  y estando sobremanera  enfurecido contra ellos, iba en persecución de ellos hasta las  ciudades extranjer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(Hechos 26: 10, 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ángulo 1"/>
          <p:cNvSpPr/>
          <p:nvPr/>
        </p:nvSpPr>
        <p:spPr>
          <a:xfrm>
            <a:off x="539640" y="1916280"/>
            <a:ext cx="784872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in vacilar declara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risto Jesús  vino al mundo para salvar a los pecadores; de los cuales yo  soy el primero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1 Timoteo 1: 15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ángulo 1"/>
          <p:cNvSpPr/>
          <p:nvPr/>
        </p:nvSpPr>
        <p:spPr>
          <a:xfrm>
            <a:off x="755640" y="220032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El corazón humilde y quebrantado, enternecido por el arrepentimiento genuino, apreciará algo del amor de Dios y del costo del Calv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ángulo 1"/>
          <p:cNvSpPr/>
          <p:nvPr/>
        </p:nvSpPr>
        <p:spPr>
          <a:xfrm>
            <a:off x="755640" y="227340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y como el hijo se confiesa a un padre amoroso, así presentará el que esté verdaderamente arrepentido todos sus pecados delante de D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ángulo 1"/>
          <p:cNvSpPr/>
          <p:nvPr/>
        </p:nvSpPr>
        <p:spPr>
          <a:xfrm>
            <a:off x="611280" y="2201760"/>
            <a:ext cx="7561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i confesamos nuestros pecados, él es fiel y justo para perdonarnos nuestros pecados, y limpiarnos de toda iniquidad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(1 Juan 1: 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ángulo 1"/>
          <p:cNvSpPr/>
          <p:nvPr/>
        </p:nvSpPr>
        <p:spPr>
          <a:xfrm>
            <a:off x="395280" y="1628640"/>
            <a:ext cx="820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apóstol dice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Confesad pues vuestros pecados los unos a los otros, y orad los unos por los otros, para que seáis sanados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Santiago 5: 16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ángulo 1"/>
          <p:cNvSpPr/>
          <p:nvPr/>
        </p:nvSpPr>
        <p:spPr>
          <a:xfrm>
            <a:off x="468360" y="1996920"/>
            <a:ext cx="81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onfesad vuestros pecados a Dios, quien sólo puede perdonarlos, y vuestras faltas unos a otr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19:35:47Z</dcterms:created>
  <dc:creator>Orlando Rosales</dc:creator>
  <dc:description/>
  <dc:language>en-US</dc:language>
  <cp:lastModifiedBy>Karina de Martin</cp:lastModifiedBy>
  <dcterms:modified xsi:type="dcterms:W3CDTF">2017-03-12T15:43:17Z</dcterms:modified>
  <cp:revision>27</cp:revision>
  <dc:subject/>
  <dc:title>CAPÍTULO 4. Para Obtener la Paz Interior </dc:title>
</cp:coreProperties>
</file>